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D74-90A2-4464-A79D-9CAFCD00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E3E-16A6-4813-A264-16206E9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9F5-28B1-4B92-901B-C7A8F217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20D-303B-4B5F-B047-BEACCAA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561-5607-47B9-AC09-B9D56B4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8E0-D716-4352-8A3A-FCD18A3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2ED-257B-4F19-AF86-F6EBA9B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07A-09E8-4137-9889-3CA3857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876-7EE4-4F55-B806-EAA5C82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A6-AD4C-4964-8F45-016578E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289-3D77-4DCD-B964-91016CEF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1BE-79B8-4A23-83C3-A1EE244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194-A663-4733-80B3-DFFB99FF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05400" y="303228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05400" y="2727360"/>
            <a:ext cx="38124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5400" y="2879640"/>
            <a:ext cx="38124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9920" y="2000160"/>
            <a:ext cx="125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cG (accotement gauch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    (chaussé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cD (accotement droi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19600" y="2270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73440" y="2479680"/>
            <a:ext cx="140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: bon;  2 moyen;  3 mauva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153120" y="2571480"/>
            <a:ext cx="247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153120" y="3257280"/>
            <a:ext cx="336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45440" y="3164040"/>
            <a:ext cx="131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Indice Is (VIZIR) (de 1 à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69360" y="265896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9360" y="28116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69360" y="296388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24520" y="187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34000" y="17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4160" y="1631880"/>
            <a:ext cx="121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 ( intersection à droi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X (crois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 (intersection à gauch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I" descr=""/>
          <p:cNvPicPr/>
          <p:nvPr/>
        </p:nvPicPr>
        <p:blipFill>
          <a:blip r:embed="rId2"/>
          <a:stretch/>
        </p:blipFill>
        <p:spPr>
          <a:xfrm>
            <a:off x="2819520" y="1117440"/>
            <a:ext cx="3343320" cy="49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057400" y="1879560"/>
            <a:ext cx="144792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2320" y="172728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 (rectiligne); S (sinueu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00200" y="2076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1760" y="1955880"/>
            <a:ext cx="133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 (plaine); M (montagneu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09320" y="218448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680" y="2268360"/>
            <a:ext cx="185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 (remblai); D (déblai); M (profil mix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6440" y="393228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 (bon); 1 (moyen); 2 (mauva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38988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81560" y="533520"/>
            <a:ext cx="39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égende des schémas itinéraires pour routes revêt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20" y="2438280"/>
            <a:ext cx="129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N (niveau terrain nature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9840" y="2141640"/>
            <a:ext cx="71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geurs (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10492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2:55:34Z</dcterms:created>
  <dc:creator>Seri_0185</dc:creator>
  <dc:description/>
  <dc:language>en-US</dc:language>
  <cp:lastModifiedBy>Seri_0185</cp:lastModifiedBy>
  <cp:lastPrinted>2001-03-15T12:31:21Z</cp:lastPrinted>
  <dcterms:modified xsi:type="dcterms:W3CDTF">2001-03-15T12:35:50Z</dcterms:modified>
  <cp:revision>11</cp:revision>
  <dc:subject/>
  <dc:title>Aucun titre de diapositive</dc:title>
</cp:coreProperties>
</file>