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B993-9FDD-4574-B56D-ECA662666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77E5-EB9C-42E2-82A5-DE6C3A89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90AD-259C-4BCE-928F-2DFE777E0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B05C-F04B-4029-89CB-B9022498B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FEE0-C3BD-45FE-ABD8-CD63E101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2C03-ABA2-4C5F-9CCA-287BB6F5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F00B-A953-4217-961A-EAD46004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620D-67D4-4D27-A71A-53738D84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367B-1B33-4868-AF5E-1EE18579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8215-8A67-4C2D-8FF2-AA430BFE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27C7-0A49-48A6-A523-AF46C864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C4A8-99D4-449D-99CB-7650110D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2F08-D58C-4817-AAA5-2B6DE02CB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1" descr=""/>
          <p:cNvPicPr/>
          <p:nvPr/>
        </p:nvPicPr>
        <p:blipFill>
          <a:blip r:embed="rId1"/>
          <a:stretch/>
        </p:blipFill>
        <p:spPr>
          <a:xfrm>
            <a:off x="2666880" y="990720"/>
            <a:ext cx="3382920" cy="4800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248520" y="2514600"/>
            <a:ext cx="285480" cy="745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5880" y="3886200"/>
            <a:ext cx="3049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71280" y="3765600"/>
            <a:ext cx="213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(peu sinueuse); 2 (sinueuse); 3 (très sinueus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48520" y="2666880"/>
            <a:ext cx="285480" cy="74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819520"/>
            <a:ext cx="285480" cy="74520"/>
          </a:xfrm>
          <a:prstGeom prst="rect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36160" y="2433600"/>
            <a:ext cx="56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avité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36160" y="2593800"/>
            <a:ext cx="56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avité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536160" y="2741760"/>
            <a:ext cx="56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avité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29280" y="2286000"/>
            <a:ext cx="3049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91720" y="2070000"/>
            <a:ext cx="240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Implantation des buses, dallots ou ponts; pou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es ponts la longueur en mètres est indiquée au dess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u symbol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63920" y="392040"/>
            <a:ext cx="454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égende des schémas itinéraires pour les routes non revêt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43680" y="1981080"/>
            <a:ext cx="3045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89920" y="1836720"/>
            <a:ext cx="2539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/ largeur de l'emprise en m / largeur de la partie circulée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3960" y="4199040"/>
            <a:ext cx="250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 les autres codifications sont identiques à celles port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ns les schémas itinéraires des routes revêtu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13:00:19Z</dcterms:created>
  <dc:creator>Seri_0185</dc:creator>
  <dc:description/>
  <dc:language>en-US</dc:language>
  <cp:lastModifiedBy>Seri_0185</cp:lastModifiedBy>
  <cp:lastPrinted>2001-03-15T14:23:38Z</cp:lastPrinted>
  <dcterms:modified xsi:type="dcterms:W3CDTF">2001-03-15T14:32:31Z</dcterms:modified>
  <cp:revision>5</cp:revision>
  <dc:subject/>
  <dc:title>Aucun titre de diapositive</dc:title>
</cp:coreProperties>
</file>